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1.png" ContentType="image/png"/>
  <Override PartName="/ppt/media/image4.png" ContentType="image/png"/>
  <Override PartName="/ppt/media/image12.jpeg" ContentType="image/jpeg"/>
  <Override PartName="/ppt/media/image13.png" ContentType="image/png"/>
  <Override PartName="/ppt/media/image6.png" ContentType="image/png"/>
  <Override PartName="/ppt/media/image29.wmf" ContentType="image/x-wmf"/>
  <Override PartName="/ppt/media/image31.png" ContentType="image/png"/>
  <Override PartName="/ppt/media/image7.png" ContentType="image/png"/>
  <Override PartName="/ppt/media/image8.png" ContentType="image/png"/>
  <Override PartName="/ppt/media/image9.png" ContentType="image/png"/>
  <Override PartName="/ppt/media/image2.png" ContentType="image/png"/>
  <Override PartName="/ppt/media/image30.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jpeg" ContentType="image/jpe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49B95-BFB1-4FC5-89FC-C2B59B42C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2202C-C8D2-438C-9193-A928683DD4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371DC-5C6F-4B66-A687-482738593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3C36F-8274-495B-9B61-A17EBBC83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9C884-0E28-4FC1-9EE8-796439F1D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EEACC-A472-46FF-9D07-3FE679F41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F920F-B3DE-44A5-9811-50D3E6F6C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A5E5C-4763-4F16-BB6E-71AC3EDDD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B0009-81C4-4E53-B779-ABAC567F0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36EE6F-438B-492B-B1CD-5BF3677EB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A2741-9586-4C39-9BFE-32781336A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F06ED-609F-4404-BAC1-C86FC5786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A49A6-7319-42E5-8DCD-2F81797841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508AA-FAF2-4DC7-B9CF-EB10BD0B3C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95EAC-050C-4CD8-B369-524C44FF2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49E03-3215-480A-90B0-383BBBA36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BCDAB-94F8-4B93-BB22-A11087355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49ECCB-379D-4B96-8362-1A3FCB1DA6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FC5F9A-2278-4960-A759-4D25A48C44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262160-3EC5-4045-BB78-38C9F0A226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970FB0-F238-4017-BCE0-D0BB2ADFD5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AA86B6-4050-4829-BB95-13A18514A8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B75D0-1F16-4BEC-88C1-80DADD292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E702E-E5EA-4BB6-9F7C-08BB076FC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DB8547-F6A4-4F1B-AE8A-8200187FE8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CF016-80B9-4B3A-8F8C-E30C6064EB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5F418E-8ED2-464D-A653-6C203C5AE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FC80B0-F05F-4B12-902C-0D3C17288A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D7E591-0E14-42BC-B906-E795215FB7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1A67C2-A133-4A51-A67E-80CBC19A32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E3CCA9-0BDD-40C6-8B2B-C7F332A720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6CFF30-A896-4B25-9306-12DA714BD5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44206-D289-41C2-904B-7E56F92535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72053-3B45-40CB-A3EE-72263D23F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BF879E-C88E-4AC2-9CD5-3E1FA9302A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BDD83F-4141-4CDB-B1DF-648F177EC2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D942D3-F8AE-4895-8284-E5AF671EB0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CCD8F8-EDD5-4AE0-AFA7-23C177997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41D0F4-A693-4D95-95FD-AFC43109DB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F7665-D39A-4996-9B65-EBDDF6BCF9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DA41A9-6B06-40C0-A0C0-DD8894B5EF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C7A590-391E-4425-A8E0-93C07B6C21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38CB0D-04E4-40D6-899F-7C99BB2615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CECF5-0A6D-4ABC-BA11-345D65CEA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8470B-1C52-44BB-BE09-26CC683A2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5562F-0BAC-47FC-9051-558D02EC3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8453A-32C0-4703-8E3D-2355A98BB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85CBB-DBC3-4AD9-BBAD-CBFBF7914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6FC5-A6C2-4384-862D-638CD6A103E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81CC-0B12-4EC3-9C65-0DEF2B53ECD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1784-A8BF-447B-8289-3AC8657DB1A6}"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825B-A18E-473E-8442-6C7720B79A1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mailto:ecosahp@gmail.com" TargetMode="External"/><Relationship Id="rId3" Type="http://schemas.openxmlformats.org/officeDocument/2006/relationships/hyperlink" Target="http://www.forecaster-ecosa.co.za/" TargetMode="External"/><Relationship Id="rId4" Type="http://schemas.openxmlformats.org/officeDocument/2006/relationships/hyperlink" Target="https://twitter.com/helmopreuss" TargetMode="External"/><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219320" y="5715000"/>
            <a:ext cx="6400800" cy="990720"/>
          </a:xfrm>
          <a:prstGeom prst="rect">
            <a:avLst/>
          </a:prstGeom>
          <a:noFill/>
          <a:ln w="0">
            <a:noFill/>
          </a:ln>
        </p:spPr>
        <p:txBody>
          <a:bodyPr anchor="t">
            <a:noAutofit/>
          </a:bodyPr>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11 September 2018</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Economic Association of Namibia</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16" name="Rectangle 4" descr=""/>
          <p:cNvPicPr/>
          <p:nvPr/>
        </p:nvPicPr>
        <p:blipFill>
          <a:blip r:embed="rId1"/>
          <a:stretch/>
        </p:blipFill>
        <p:spPr>
          <a:xfrm>
            <a:off x="304920" y="2968560"/>
            <a:ext cx="8534160" cy="1408320"/>
          </a:xfrm>
          <a:prstGeom prst="rect">
            <a:avLst/>
          </a:prstGeom>
          <a:ln w="0">
            <a:noFill/>
          </a:ln>
        </p:spPr>
      </p:pic>
      <p:pic>
        <p:nvPicPr>
          <p:cNvPr id="217" name="Picture 7" descr=""/>
          <p:cNvPicPr/>
          <p:nvPr/>
        </p:nvPicPr>
        <p:blipFill>
          <a:blip r:embed="rId2"/>
          <a:stretch/>
        </p:blipFill>
        <p:spPr>
          <a:xfrm>
            <a:off x="3692520" y="614520"/>
            <a:ext cx="2327400" cy="2357280"/>
          </a:xfrm>
          <a:prstGeom prst="rect">
            <a:avLst/>
          </a:prstGeom>
          <a:ln w="0">
            <a:noFill/>
          </a:ln>
        </p:spPr>
      </p:pic>
      <p:pic>
        <p:nvPicPr>
          <p:cNvPr id="218" name="Picture 1" descr=""/>
          <p:cNvPicPr/>
          <p:nvPr/>
        </p:nvPicPr>
        <p:blipFill>
          <a:blip r:embed="rId3"/>
          <a:stretch/>
        </p:blipFill>
        <p:spPr>
          <a:xfrm>
            <a:off x="3798720" y="4114800"/>
            <a:ext cx="2221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62120" y="1676520"/>
            <a:ext cx="6781680" cy="4952880"/>
          </a:xfrm>
          <a:prstGeom prst="rect">
            <a:avLst/>
          </a:prstGeom>
          <a:noFill/>
          <a:ln w="0">
            <a:noFill/>
          </a:ln>
        </p:spPr>
        <p:txBody>
          <a:bodyPr anchor="t">
            <a:noAutofit/>
          </a:bodyPr>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propriation without compensation and Mining Charter key policy initiatives will determine Ramaphoria longevity </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ternal economic environment faces major downside risks with escalating trade wars and overvalued equity markets</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A will largely have to look at domestic infrastructure build and efficient SOEs to grow in next few years    </a:t>
            </a:r>
            <a:endParaRPr b="0" lang="en-US" sz="2800" spc="-1" strike="noStrike">
              <a:solidFill>
                <a:srgbClr val="404040"/>
              </a:solidFill>
              <a:latin typeface="Trebuchet MS"/>
            </a:endParaRPr>
          </a:p>
        </p:txBody>
      </p:sp>
      <p:pic>
        <p:nvPicPr>
          <p:cNvPr id="235" name="Title 4" descr=""/>
          <p:cNvPicPr/>
          <p:nvPr/>
        </p:nvPicPr>
        <p:blipFill>
          <a:blip r:embed="rId1"/>
          <a:stretch/>
        </p:blipFill>
        <p:spPr>
          <a:xfrm>
            <a:off x="804960" y="407880"/>
            <a:ext cx="736416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68580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642960" y="609480"/>
            <a:ext cx="7864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609480" y="609480"/>
            <a:ext cx="7898040" cy="563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636480" y="685800"/>
            <a:ext cx="782172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762120" y="685800"/>
            <a:ext cx="76183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838080" y="838080"/>
            <a:ext cx="7543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9760" y="1143000"/>
            <a:ext cx="8124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5261040" y="3760920"/>
            <a:ext cx="3578040" cy="1311120"/>
          </a:xfrm>
          <a:prstGeom prst="rect">
            <a:avLst/>
          </a:prstGeom>
          <a:ln w="0">
            <a:noFill/>
          </a:ln>
        </p:spPr>
      </p:pic>
      <p:sp>
        <p:nvSpPr>
          <p:cNvPr id="244" name=""/>
          <p:cNvSpPr txBox="1"/>
          <p:nvPr/>
        </p:nvSpPr>
        <p:spPr>
          <a:xfrm>
            <a:off x="1142640" y="731520"/>
            <a:ext cx="5181480" cy="292572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Helmo 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27 79 773 2458</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Email: </a:t>
            </a:r>
            <a:r>
              <a:rPr b="0" lang="en-ZA" sz="2200" spc="-1" strike="noStrike" u="sng">
                <a:solidFill>
                  <a:srgbClr val="56c7aa"/>
                </a:solidFill>
                <a:uFillTx/>
                <a:latin typeface="Trebuchet MS"/>
                <a:hlinkClick r:id="rId2"/>
              </a:rPr>
              <a:t>ecosahp@gmail.com</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Website: </a:t>
            </a:r>
            <a:r>
              <a:rPr b="0" lang="en-ZA" sz="2200" spc="-1" strike="noStrike" u="sng">
                <a:solidFill>
                  <a:srgbClr val="56c7aa"/>
                </a:solidFill>
                <a:uFillTx/>
                <a:latin typeface="Trebuchet MS"/>
                <a:hlinkClick r:id="rId3"/>
              </a:rPr>
              <a:t>www.forecaster-ecosa.co.za</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56c7aa"/>
                </a:solidFill>
                <a:uFillTx/>
                <a:latin typeface="Trebuchet MS"/>
                <a:hlinkClick r:id="rId4"/>
              </a:rPr>
              <a:t>https://twitter.com/helmo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icture 2"/>
          <p:cNvSpPr/>
          <p:nvPr/>
        </p:nvSpPr>
        <p:spPr>
          <a:xfrm>
            <a:off x="6172200" y="380880"/>
            <a:ext cx="2625840" cy="23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icture 2"/>
          <p:cNvSpPr/>
          <p:nvPr/>
        </p:nvSpPr>
        <p:spPr>
          <a:xfrm>
            <a:off x="304920" y="3886200"/>
            <a:ext cx="480060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6" descr=""/>
          <p:cNvPicPr/>
          <p:nvPr/>
        </p:nvPicPr>
        <p:blipFill>
          <a:blip r:embed="rId5"/>
          <a:stretch/>
        </p:blipFill>
        <p:spPr>
          <a:xfrm>
            <a:off x="304920" y="5029200"/>
            <a:ext cx="6315120" cy="1666800"/>
          </a:xfrm>
          <a:prstGeom prst="rect">
            <a:avLst/>
          </a:prstGeom>
          <a:ln w="0">
            <a:noFill/>
          </a:ln>
        </p:spPr>
      </p:pic>
      <p:pic>
        <p:nvPicPr>
          <p:cNvPr id="248" name="Picture 7" descr=""/>
          <p:cNvPicPr/>
          <p:nvPr/>
        </p:nvPicPr>
        <p:blipFill>
          <a:blip r:embed="rId6"/>
          <a:stretch/>
        </p:blipFill>
        <p:spPr>
          <a:xfrm>
            <a:off x="6205680" y="311040"/>
            <a:ext cx="2592360" cy="227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5335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2120" y="1676520"/>
            <a:ext cx="6781680" cy="4038480"/>
          </a:xfrm>
          <a:prstGeom prst="rect">
            <a:avLst/>
          </a:prstGeom>
          <a:noFill/>
          <a:ln w="0">
            <a:noFill/>
          </a:ln>
        </p:spPr>
        <p:txBody>
          <a:bodyPr anchor="t">
            <a:noAutofit/>
          </a:bodyPr>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December 2017 Election</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February 2018 Palace Coup</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Ramaphoria</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Political Compromise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WOT Analysi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Can it last?</a:t>
            </a:r>
            <a:endParaRPr b="0" lang="en-US" sz="2800" spc="-1" strike="noStrike">
              <a:solidFill>
                <a:srgbClr val="404040"/>
              </a:solidFill>
              <a:latin typeface="Trebuchet MS"/>
            </a:endParaRPr>
          </a:p>
        </p:txBody>
      </p:sp>
      <p:pic>
        <p:nvPicPr>
          <p:cNvPr id="220" name="Title 4" descr=""/>
          <p:cNvPicPr/>
          <p:nvPr/>
        </p:nvPicPr>
        <p:blipFill>
          <a:blip r:embed="rId1"/>
          <a:stretch/>
        </p:blipFill>
        <p:spPr>
          <a:xfrm>
            <a:off x="950760" y="579600"/>
            <a:ext cx="721836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61760" y="1676160"/>
            <a:ext cx="7924680" cy="2438280"/>
          </a:xfrm>
          <a:prstGeom prst="rect">
            <a:avLst/>
          </a:prstGeom>
          <a:noFill/>
          <a:ln w="0">
            <a:noFill/>
          </a:ln>
        </p:spPr>
        <p:txBody>
          <a:bodyPr anchor="t">
            <a:noAutofit/>
          </a:bodyPr>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Narrow win for Cyril Ramaphosa</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Half of the Top Six are Zuma allie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rife with faction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unity ahead of 2019 National Elections</a:t>
            </a:r>
            <a:endParaRPr b="0" lang="en-US" sz="2800" spc="-1" strike="noStrike">
              <a:solidFill>
                <a:srgbClr val="404040"/>
              </a:solidFill>
              <a:latin typeface="Trebuchet MS"/>
            </a:endParaRPr>
          </a:p>
        </p:txBody>
      </p:sp>
      <p:pic>
        <p:nvPicPr>
          <p:cNvPr id="222"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761760" y="1752480"/>
            <a:ext cx="7924680" cy="3810240"/>
          </a:xfrm>
          <a:prstGeom prst="rect">
            <a:avLst/>
          </a:prstGeom>
          <a:noFill/>
          <a:ln w="0">
            <a:noFill/>
          </a:ln>
        </p:spPr>
        <p:txBody>
          <a:bodyPr anchor="t">
            <a:noAutofit/>
          </a:bodyPr>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Who was going to deliver the State of the Nation Address (SONA)?</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SONA delayed so that Ramaphosa could deliver it after Zuma resignation on Valentine’s Day</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Harking back to JFK 1961 inaugural speech, Ramaphosa uses “Send Me” as call to action for SA citizens</a:t>
            </a:r>
            <a:endParaRPr b="0" lang="en-US" sz="2600" spc="-1" strike="noStrike">
              <a:solidFill>
                <a:srgbClr val="404040"/>
              </a:solidFill>
              <a:latin typeface="Trebuchet MS"/>
            </a:endParaRPr>
          </a:p>
        </p:txBody>
      </p:sp>
      <p:pic>
        <p:nvPicPr>
          <p:cNvPr id="224"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609480" y="982800"/>
            <a:ext cx="7925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Address should have been delivered last week, but was delayed so that we could properly manage issues of political transition. I wish to thank Honourable Members and the people of South Africa for their patience and forbearance,” he said in his opening rem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celebrating the centenary of Nelson Mandela we are not merely honouring the past, we are building the future. We are at a moment in the history of our nation when the people, through their determination, have started to turn the country around. We can envisage the triumph over poverty, we can see the end of the battle against AIDS. Now is the time to lend a hand. Now is the time for each of us to say ‘</a:t>
            </a:r>
            <a:r>
              <a:rPr b="1" lang="en-US" sz="2400" spc="-1" strike="noStrike">
                <a:solidFill>
                  <a:srgbClr val="000000"/>
                </a:solidFill>
                <a:latin typeface="Times New Roman"/>
              </a:rPr>
              <a:t>send me</a:t>
            </a:r>
            <a:r>
              <a:rPr b="0" lang="en-US" sz="2400" spc="-1" strike="noStrike">
                <a:solidFill>
                  <a:srgbClr val="000000"/>
                </a:solidFill>
                <a:latin typeface="Times New Roman"/>
              </a:rPr>
              <a:t>’. Now is the time for all of us to work together, in honour of Nelson Mandela, to build a new, better South Africa for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72760" y="1599840"/>
            <a:ext cx="5637240" cy="433404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2200" spc="-1" strike="noStrike">
              <a:solidFill>
                <a:srgbClr val="212745"/>
              </a:solidFill>
              <a:latin typeface="Trebuchet MS"/>
            </a:endParaRPr>
          </a:p>
        </p:txBody>
      </p:sp>
      <p:pic>
        <p:nvPicPr>
          <p:cNvPr id="227" name="Title 4" descr=""/>
          <p:cNvPicPr/>
          <p:nvPr/>
        </p:nvPicPr>
        <p:blipFill>
          <a:blip r:embed="rId1"/>
          <a:stretch/>
        </p:blipFill>
        <p:spPr>
          <a:xfrm>
            <a:off x="811080" y="523800"/>
            <a:ext cx="7180560" cy="1013040"/>
          </a:xfrm>
          <a:prstGeom prst="rect">
            <a:avLst/>
          </a:prstGeom>
          <a:ln w="0">
            <a:noFill/>
          </a:ln>
        </p:spPr>
      </p:pic>
      <p:pic>
        <p:nvPicPr>
          <p:cNvPr id="228" name="Picture 3" descr=""/>
          <p:cNvPicPr/>
          <p:nvPr/>
        </p:nvPicPr>
        <p:blipFill>
          <a:blip r:embed="rId2"/>
          <a:stretch/>
        </p:blipFill>
        <p:spPr>
          <a:xfrm>
            <a:off x="6094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914400" y="79704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 was the best performing currency in the world against the US dollar at the beginning of year as it strengthened by more than a quarter (26%) from R14.57 per US dollar on 13 November 2017 to R11.56 on 16 February 20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six weeks of this year, foreigners bought a net R16.8 billion worth of South African equities compared with net sales of R22.1 billion in the same period last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ANC voted with EFF to support a review of Expropriation without Compensation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Many Zuma allies were retained in the March cabinet, even if they were shifted to minor ministries</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Pravin Gordhan intervened in Eskom wage negotiations resulting in 7.5% increase instead of zero increase</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Civil servants got above budgeted increases which prompted Moody’s warning on fiscal slippage</a:t>
            </a:r>
            <a:endParaRPr b="0" lang="en-US" sz="2400" spc="-1" strike="noStrike">
              <a:solidFill>
                <a:srgbClr val="404040"/>
              </a:solidFill>
              <a:latin typeface="Trebuchet MS"/>
            </a:endParaRPr>
          </a:p>
        </p:txBody>
      </p:sp>
      <p:pic>
        <p:nvPicPr>
          <p:cNvPr id="231"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Strength: ANC got rid of Zuma and has instituted Zondo Commission into State Capture. Diversified economy and export destinatio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 Lack of trust between government and business. Policy uncertainty remai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Opportunities: BRICS member. Brexit makes us a prime UK partner. Zimbabwe recovery.</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es: Liquid rand market results in emerging market contagion. Moody’s may still downgrade SA after MTBPS. Trump does not like Africa. </a:t>
            </a:r>
            <a:endParaRPr b="0" lang="en-US" sz="2400" spc="-1" strike="noStrike">
              <a:solidFill>
                <a:srgbClr val="404040"/>
              </a:solidFill>
              <a:latin typeface="Trebuchet MS"/>
            </a:endParaRPr>
          </a:p>
        </p:txBody>
      </p:sp>
      <p:pic>
        <p:nvPicPr>
          <p:cNvPr id="233" name="Title 4" descr=""/>
          <p:cNvPicPr/>
          <p:nvPr/>
        </p:nvPicPr>
        <p:blipFill>
          <a:blip r:embed="rId1"/>
          <a:stretch/>
        </p:blipFill>
        <p:spPr>
          <a:xfrm>
            <a:off x="993600" y="609480"/>
            <a:ext cx="71755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1T02:06:29Z</dcterms:created>
  <dc:creator>.</dc:creator>
  <dc:description/>
  <dc:language>en-US</dc:language>
  <cp:lastModifiedBy>Helmo</cp:lastModifiedBy>
  <dcterms:modified xsi:type="dcterms:W3CDTF">2018-09-11T05:11:06Z</dcterms:modified>
  <cp:revision>236</cp:revision>
  <dc:subject/>
  <dc:title>The case of the missing car sales</dc:title>
</cp:coreProperties>
</file>